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E596-E3BA-47F3-B9B9-6ADCA2A9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B938-D6AA-424C-8B88-821B7512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401E6-471D-4626-B570-D5C09E91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9AF18-3A99-4984-BA20-441B66F8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1AB42-C759-49F1-A839-A83F76CB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207B9-DEFA-4932-9E67-04F53E21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14808-329B-4F15-96BA-C4CDB0F2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CDA66-5EDC-4515-9983-384AEBF3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6674A-D5C9-4078-B175-770DED28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1A162-934C-4FB3-A7E1-3DAD1219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E54E7-EE48-434E-90F6-C4782F06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9918E-B691-4609-825C-EC7EB9CB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AE5EA-352D-4844-8780-893D0C86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EFFB7-9640-4893-ACD2-6AB0921F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D8F01-DAD5-494C-8FA8-A97B3476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97C1B-5ED5-48A1-8E49-34286D8D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DDEDA-183C-468D-9050-A2EBB499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C4AE9-6301-4675-8026-36E803B4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19DB9-8791-4971-B2EF-F9863EC9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F4D88-A674-4332-9E6F-A8367C18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B4793-BB60-4BE4-9F5A-E55C889A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090D5-37AF-4F1A-8FC7-ADA19C31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AEAB6-33D0-4FA7-98DE-A016D420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A085-46F4-4740-A613-69E06B6E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FF84A-F4F2-490C-A84C-FC2A9C83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2AA44-E603-4EEE-9361-6997192E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4631F-6477-4808-AE29-C46A67C2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0BB8A-7528-439A-BC6B-35CB95D6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91852-56FF-40A0-BD49-31D7A2AE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43DB5-ABE9-48A7-B9DC-6BF4AAF2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AE827-A2C2-4B51-B3BF-440B5795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9C377-853C-425E-932A-C0D52CEF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FCD4E-609C-482F-82E4-86D54A12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785CA-1F79-4E72-846E-9BB3586D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EBB6-57F4-41F0-8D23-618165CD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3DBD7-8171-422F-AA51-F6047D93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1F2D5-3761-4C45-ABD1-47402547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D909B-3F0E-4D29-954A-2353ED1F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0949B-9ED2-4601-AF0C-BD635970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B1A68-8FA8-4008-9AE2-F9D53FED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715F1-D7C4-4365-9D29-8BFC5608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4B63F-7370-48EC-B071-F8501150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734D9-6C57-44EB-A873-4E17B935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B0557-4C41-4ACE-A92A-950886CA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E227D-0486-46B9-8AFF-7EC0368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B6D4-BBC2-4B4E-BDF7-E4C51E3F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8B84E-5853-45F2-BB00-A59359E8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13246-3A62-4E4E-9195-67DD7BF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48455-2AFB-44F3-8084-0A16367D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60F8C-914A-49A1-999D-29370A6C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01BE7-7735-42C6-9F48-FC2E25C0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FCF09-670C-4524-9E04-D6842214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DD993-6635-489F-B28C-77183B7E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53D36-449F-4361-9260-B31C508D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24286-1777-4795-BECD-9D881C9E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F0D49-CB92-4A45-9AE9-8AF08928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0B38-F4CC-4E0F-BAAA-6C29EFB8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3C513-7FE0-4E3C-BB6B-3B50D475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9789E-624D-4565-ACA4-8B994AC7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DB9C2-5CFA-42F0-B109-4D107A94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419BD-142C-49BC-9304-CAC8E03B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D3A26-2B10-4E97-A257-ECA888EB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23EDC-8477-4CD8-9F59-448E2DD4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7C0BC-2EAC-4FD0-8D74-372029DD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039D5-EFDC-4EB8-BF9F-DB3FFBE9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02AE6-687B-49C6-8FBB-3C79A1EE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5C595-1C99-473F-A07C-77F562FA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6231-092F-4DE2-9048-13F7571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6EB25-93CB-4B8F-9A23-056734A6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339F2-AECE-46C3-946F-49CCFCCE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CD663-13D3-4726-827C-26A7FC48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4D72C-77B6-4D8C-8B5C-F1995628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F07E2-F138-4077-AF96-13F7234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539F2-6EC0-46E8-806F-54737A3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0E0BC-F138-4F7C-80F6-64A33234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E3420-A822-4DD3-82CB-BB970F7F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5DDFD-C1C1-4EED-8265-2D0819E9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19F3-3F35-4D01-B688-E6081ACC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CA2C-D8D6-4A9A-8B61-CD927B6A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9C59-9D83-4ED1-A41D-47A46F56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A470-9F55-4C8C-AB71-F98D7F80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BEC7-E0CE-4993-A36A-362AC84B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B90C-2A54-4E84-8BB8-21589BFE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7559-7EAF-45BA-98F0-546127DE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D5A7-83F9-4F71-ABCF-3A812756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9BC9-2980-4ED7-AE0E-5D9C3B1B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E83C-B655-44FD-929D-E9C9EF37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443C-365F-40D1-880E-FD3C6A64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AD3F-E44C-43AA-AF16-C46B23E5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728F-3BC2-4534-92B2-B7E09709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5B7D-F6F9-4723-AB67-85AF2E80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8207-619E-45DF-86F0-37EC977E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57D5-A1FD-4D38-9985-6BF9019B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A1C2-F13F-4FBF-BBAB-785499F9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4BC3-D973-4D9C-A02B-9AE85381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00E1-3AA1-4130-B4C4-36F4AA07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8C9E5-D9E7-467F-8E45-0EAFA965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71F4-68A3-4018-8300-AD93E83E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4735D-4B53-47F2-BED0-20C062CD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4CC57-EB5E-41C3-B8F1-E239BA25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C76B3-50FA-4481-BDEB-2C7DBDA9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28301-53C6-4062-A5F9-E4BFEB83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C4CA-D8C5-4F0E-9605-3C618361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7C9D1-F2C0-455B-98EE-89164E00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61A22-3007-404A-A1CE-71928307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91D71-02D5-4621-BA10-8AC719B5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DC0B7-BDC4-44DE-9407-B6619044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69B73-9EED-4757-9D8B-67648D79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FC5AD-3036-4CD7-B6D8-55A4B315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058B2-9CC2-4BF0-A9F3-92B4C6C1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DCBFF-E446-4EF0-9918-E0440C49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876B19-BBBF-456E-BF8D-FE783F0D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C1956-CD98-46CD-A0B3-ED74490B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7C07-8484-40FE-8AF0-2A885B9F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C9709-D1C1-4972-9903-D13FBF63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DB807-FF12-4F7C-BCBA-997BB79C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A849D-8FF3-4B17-ADA5-4E493992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20615-E041-46EF-ACEF-DB6C4943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30807-29A9-4EFB-A9B5-2597129A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CCAC1-7810-47A0-A663-86D2121D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F30F-F011-4EC4-A669-7F882D5E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BA2B1-9C87-4F2A-BBE7-09E88175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FD7CC-F4FC-46A4-B13E-23A4AC1D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02347-3D86-40F0-AEC9-6AD158F2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A5D6-17A7-4872-A61C-207BE143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74F1E-35C5-4094-B47E-6DECAC0C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2202D-F9D9-4D4E-9DFF-F08A1261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533C7-7678-4CF5-A2D7-E60C9994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1E8F0-3069-4216-9A1C-45188364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A0A36-A2CE-4383-88A8-F7961E3E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A580A-4240-410F-B153-3F930348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9A33D-C0B8-41CD-9469-BD1B26EB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04A7C-50BD-441C-B198-AD100616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293DD-056F-404C-84C5-97925314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A89CE-AAC8-4640-838E-DBDD79FB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E587-B999-4A18-8D3B-85262F3A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16104E-3D0A-4942-84FA-4C1BB3D2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B428B-CBD3-407E-A34C-DA98330E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798DF-8875-4439-B888-15118B44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E5DCB-0CC9-4188-8D83-CDF6150B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5318E-F33C-4B83-822B-E2ADEE4A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1A130-DA2E-4E6B-B92E-96938348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06791-78E7-4B06-8F07-2A72F425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B1F97-C03D-4CA4-8B8D-85AF0C56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D2A4D-5746-4034-8298-CDC99112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87991-6C88-4DA3-8D85-5A21EB2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9848-A926-4CEC-8B7B-A1207AA5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18C90-A391-4D86-9355-8CD90045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6507C-6D8C-481A-8E87-2BA0C661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8C708-2DFA-4B8C-9130-EEC44DD3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E1CD9-4B70-48BF-A5EF-995C4924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B2871-E2D6-48E1-A396-C838BE70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3FD6-1613-45BD-957E-8A31CB82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4B30A-1BD9-4300-913F-ECC7E28E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E590F-6130-4F66-9E10-94E293D0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4B8B4-A2C6-47CA-9E88-4B27A53E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30C06-EC5F-4605-9648-ED0E6C70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4B44-EA1A-4AB4-831C-B1B7C31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1C981-087B-4A36-90E2-839AB133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7A001-B9DE-4D29-9EF5-AD93E776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FA416-D4AA-4DED-9FA2-44554CBF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7D077-6349-4F6D-98DC-FB2FCF21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0C99B-8A17-4ED6-8B7F-2D8B7313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09DBB-9106-4A02-8E42-067FE860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5217C-54FC-4D14-B3C9-69831D59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DA883-7704-46B8-93D7-762387FF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AFF60-83A6-476E-9BF2-8AEAE54D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16A20-D81F-4583-A305-63A6AEDB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2918-D4C7-4780-BFA0-0389C7DD25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8"/>
            </a:gs>
            <a:gs pos="100000">
              <a:srgbClr val="0075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8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51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8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d6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d6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5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5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9EE-C815-4A6D-A2AF-12BA1CE2F1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9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9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9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0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1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1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3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E10B-A6EC-4F8B-92DB-694163939D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9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9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0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2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9ACE-266D-48C9-8290-C7F0D295B3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8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585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5385-E7BC-4D5E-9F4D-1390B764D8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2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4f4f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117D-E632-46C8-934A-CAEBF83434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A253-D661-45B7-9132-BC053247C0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11C9-4248-4DA9-95E4-637B8104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1B32-1FA5-4D12-8D82-B4A857726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534"/>
            </a:gs>
            <a:gs pos="100000">
              <a:srgbClr val="0075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6d6f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534"/>
                </a:gs>
                <a:gs pos="100000">
                  <a:srgbClr val="0075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757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aeac"/>
                </a:gs>
                <a:gs pos="100000">
                  <a:srgbClr val="0088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a4a2"/>
                </a:gs>
                <a:gs pos="100000">
                  <a:srgbClr val="0088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C770-52DC-4E92-826B-FB6D035A24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534"/>
            </a:gs>
            <a:gs pos="100000">
              <a:srgbClr val="0075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6d6f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534"/>
                </a:gs>
                <a:gs pos="100000">
                  <a:srgbClr val="0075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757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aeac"/>
                </a:gs>
                <a:gs pos="100000">
                  <a:srgbClr val="0088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88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a4a2"/>
                </a:gs>
                <a:gs pos="100000">
                  <a:srgbClr val="0088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8EAB-9885-4E2B-8D2C-536A6CF3E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3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4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1645-F8A2-4582-830E-BA1959680C4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1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B4A1-9222-40B1-B164-F5EECC878DD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8"/>
            </a:gs>
            <a:gs pos="100000">
              <a:srgbClr val="0075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7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572"/>
                </a:gs>
                <a:gs pos="100000">
                  <a:srgbClr val="0051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8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7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74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7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8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6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885"/>
                    </a:gs>
                    <a:gs pos="100000">
                      <a:srgbClr val="005e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d6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d6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e5c"/>
                    </a:gs>
                    <a:gs pos="100000">
                      <a:srgbClr val="00888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5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5c"/>
                  </a:gs>
                  <a:gs pos="100000">
                    <a:srgbClr val="0088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d6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E15F-8AAD-49FD-89BC-8FE5C06A88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radley Hand ITC"/>
              </a:rPr>
              <a:t>Mi  Mansi</a:t>
            </a:r>
            <a:r>
              <a:rPr b="0" lang="en-US" sz="4800" spc="-1" strike="noStrike">
                <a:solidFill>
                  <a:srgbClr val="ffffcc"/>
                </a:solidFill>
                <a:latin typeface="Bradley Hand ITC"/>
                <a:ea typeface="Tahoma"/>
              </a:rPr>
              <a:t>ó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Por Neha Shab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 un garaje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Es moderno y magnif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76244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Rockwell Extra Bold"/>
              </a:rPr>
              <a:t>Gracias por mirar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572760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Extra Bold"/>
              </a:rPr>
              <a:t>Es una mansi</a:t>
            </a:r>
            <a:r>
              <a:rPr b="0" lang="en-US" sz="4400" spc="-1" strike="noStrike">
                <a:solidFill>
                  <a:srgbClr val="ffffff"/>
                </a:solidFill>
                <a:latin typeface="Rockwell Extra Bold"/>
                <a:ea typeface="Tahoma"/>
              </a:rPr>
              <a:t>ó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 estupenda, moderna, y lujo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48280" cy="3362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Curlz MT"/>
              </a:rPr>
              <a:t>Es una cocina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s impresionante, magnifica, y gra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762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El un comedor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ookman Old Style"/>
              </a:rPr>
              <a:t>Es muy antiguo y bonit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5029200" cy="334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1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Felix Titling"/>
              </a:rPr>
              <a:t>Es una sala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s relajante y fres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astellar"/>
              </a:rPr>
              <a:t>Es un baño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nsolas"/>
              </a:rPr>
              <a:t>Es muy grande, lujoso, y nuev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4800600" cy="31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pperplate Gothic Bold"/>
              </a:rPr>
              <a:t>Es un cuarto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andara"/>
              </a:rPr>
              <a:t>Es impresionante, fabuloso, y magni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Rockwell Extra Bold"/>
              </a:rPr>
              <a:t>Es un patio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s simple y ún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876560" cy="3259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Es un jardin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Es un bonito y estupen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2400120" cy="166356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3581280" y="4572000"/>
            <a:ext cx="1557360" cy="20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8:11Z</dcterms:created>
  <dc:creator>shabeerneh</dc:creator>
  <dc:description/>
  <dc:language>en-US</dc:language>
  <cp:lastModifiedBy>shabeerneh</cp:lastModifiedBy>
  <dcterms:modified xsi:type="dcterms:W3CDTF">2013-04-04T17:15:56Z</dcterms:modified>
  <cp:revision>10</cp:revision>
  <dc:subject/>
  <dc:title>Mi  Mansión</dc:title>
</cp:coreProperties>
</file>